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3CE-7C29-4220-98E7-90390061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D75B-7D70-42D4-9979-E0CC1F15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FA1E-1B78-4D8B-BFC6-773EB4F31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E925-EEE9-4E9F-8F4C-3C6BF678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767-5F04-4284-AC7B-F212037A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C72-955A-4FAB-81B4-B88C4223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B056-0943-4AB2-92F9-5E26FC86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042-8472-4170-8970-51CA0370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5C8-B0EB-426A-8BD4-3698EBD3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412-43C1-4061-8057-5C745CAE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D76C-3E32-4D30-8C79-C5B9EE9B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02CB-8112-4045-B645-6DBDC632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D2CE-7CE1-4534-858E-A86B47314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0" y="0"/>
            <a:ext cx="9144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uirements for script and powerpoi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eeting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ame of your station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re the station is located (must be a city in a German speaking country)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name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ay and date (this can be any date of your choosing). 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p story  (Unsere Hauptbericht  [our top story] ist… 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animal is missing or lost. (missing – Ein/ein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nimal feh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) (lost – Ein/eine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nima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st verloren.)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 have the owner here”.  (Besitzer/Besitzerin - owner)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th say hello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for owner’s name and answer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where s/he lives.  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ype animal they are looking for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he name of the animal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description using colors and size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 the temperament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Age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Question and answer: what the pet likes (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contact number and/or email address if the animal is found. (Wenn gefunden, rufen Sie bei….. an.)  (Wenn gefunden, schicken Sie eine Email an… )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ank you (said to the interviewee)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oth must say Goodbye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70572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tatively worth 128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1"/>
          <a:stretch/>
        </p:blipFill>
        <p:spPr>
          <a:xfrm>
            <a:off x="-189000" y="5589720"/>
            <a:ext cx="960120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ctangle 2" descr=""/>
          <p:cNvPicPr/>
          <p:nvPr/>
        </p:nvPicPr>
        <p:blipFill>
          <a:blip r:embed="rId1"/>
          <a:stretch/>
        </p:blipFill>
        <p:spPr>
          <a:xfrm>
            <a:off x="-12600" y="-6480"/>
            <a:ext cx="8022960" cy="3981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4038480"/>
            <a:ext cx="89917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nunciation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pronunciation sound very close to a native speakers for this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pronunciation does not interfere with presentation, but some mispronunciation (pronounced like Engl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any words were mispronounced, however, a sympathetic listener could underst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understanding was difficult.  Understanding could only be achieved by reading the written scri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mostly correct, mistakes are minor (word order or spe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– mostly correct, mistakes are mostly minor, but errors exist in the requir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mistakes make meaning unclear in some places, or mistakes with requirements and verb conjug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many mistakes in the requirements show inadequate mastery of the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or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– added extra vocabulary and possessive adjectives to enhance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- added extra vocabulary to enhance the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– fulfilled all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did not complete the project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5T20:55:28Z</dcterms:created>
  <dc:creator>ahart</dc:creator>
  <dc:description/>
  <dc:language>en-US</dc:language>
  <cp:lastModifiedBy>ahart</cp:lastModifiedBy>
  <dcterms:modified xsi:type="dcterms:W3CDTF">2012-11-08T20:44:10Z</dcterms:modified>
  <cp:revision>15</cp:revision>
  <dc:subject/>
  <dc:title>Slide 1</dc:title>
</cp:coreProperties>
</file>